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979E-A3BB-4901-B4E1-4ED7E102D7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261-D0B4-4E69-8C29-67B8C65C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2C77-E11A-4F91-A04C-E38E6E1D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F8AC-E85E-426A-B3AC-F333F677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78FD-45B2-434E-B44D-9C2DFBE9C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8919F-99C2-467D-BC1D-641974A1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6DBA-C6E4-44A8-95FB-D98EA355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304B-A901-4024-8735-67DF1E6F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F163-5855-421F-90ED-F19FCD976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0957-16E0-46E2-9824-CE94AC8E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1533-2D0F-47FF-965E-63CAD748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3E14-92BC-4CAE-9DD5-BD77A8B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FF6E-5E73-428B-A271-3C33D6DE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1897-96C6-4412-ADD4-80C21E6D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12993-3850-4E16-9093-03B41697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B767-1B58-4280-8CAA-C29A58A5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A0E8D-2022-4050-9F64-7A040C2E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652B-44E6-45F4-8D3E-E5ADB0F5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CF20-3977-46C5-B876-9088982A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B463-D5A3-4D21-B34A-BCB32A24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986A-0B93-433E-A197-1BB6D988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509A-6BF8-4522-8F1B-360DF70C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413-50CB-41A3-A906-CBD92B3E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AC4A-6740-4A3F-AEA5-C87D3972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8A8-5EA3-4E1A-96A3-070B7BC2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4E3A-6E4C-46F2-AA4B-E7C61AA154CC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484E-4AAF-4027-87D7-B1FFD7F9D4E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RomaK</cp:lastModifiedBy>
  <dcterms:modified xsi:type="dcterms:W3CDTF">2015-09-02T09:49:05Z</dcterms:modified>
  <cp:revision>4</cp:revision>
  <dc:subject/>
  <dc:title>Writing A Good Book Review</dc:title>
</cp:coreProperties>
</file>